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1AC-313E-468D-BDA0-364A12CC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08B-5852-431C-86C4-A6FFCC92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B46-1EB2-43E0-A404-8D124E5D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F25-422C-4284-9561-04457DA3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B3B-4275-4EDE-A732-6B15E550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D1A-E4E3-4DDD-BF0A-4E4BBBCA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168-3CB5-4B38-BC21-20E02C9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514-796A-4CA8-8320-9A8B29C0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D10-1701-4436-A44B-A42F2C04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B98-9592-4A1C-B9BB-2D8907EA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B99-1C41-4903-88FB-5D85DF7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ABA-A19C-4F35-A7FB-51E1E9E9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DBA3-02DE-4091-AAB2-10176CE51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23.xml"/><Relationship Id="rId14" Type="http://schemas.openxmlformats.org/officeDocument/2006/relationships/slide" Target="slide23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19.xml"/><Relationship Id="rId24" Type="http://schemas.openxmlformats.org/officeDocument/2006/relationships/slide" Target="slide19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29.xml"/><Relationship Id="rId32" Type="http://schemas.openxmlformats.org/officeDocument/2006/relationships/slide" Target="slide29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tocols of the Elders of Z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ason given for not bombing Auschwi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o far for planes to fly – not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who tried to warn America about what he witnessed in the ghettos and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n Kars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the reaction of American churches to the plight of the J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US National Security Advisor Breckinridge Long did this in 19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t immigration quota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people were responsible for transporting bodies from the gas chambers to the crema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09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-Sem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nderkomman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n was honored as a leader of the Warsaw Ghetto Upr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decai Anielewic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in Germany to expand living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r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one’s own religion, ethnicity, or political views are superior to all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nocent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vement to create a Jewish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Zio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 who mounted an armed resistance as a way to resist the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ws are a race who are members of the tribe of Judah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s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of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bo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of controlled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ge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final jeopar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oundation or early stage of the hate/violenc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s of indirect prejudice like jokes, rumors, stereo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Jews murdered children for their blood for religious ceremo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ood Li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pposed secret plan for a Jewish take over of the world, which was a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6:09:56Z</dcterms:modified>
  <cp:revision>17</cp:revision>
  <dc:subject/>
  <dc:title>PowerPoint Presentation</dc:title>
</cp:coreProperties>
</file>