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969-A329-4D68-883D-5F3E7764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C00-8E6A-4E3C-8DBC-3E51C95A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253-7404-4BCB-B500-C94F4465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07B-AD8A-414B-9225-337FEF71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12E-54D4-408F-93BF-7AAFC555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F0B-749D-4066-A25A-62555A21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4F4-1A29-4D82-BA36-2FDB6314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AE7-15C6-4397-90CF-7EFD3924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7A2-B1C3-4691-9D89-4B07DD96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EFC-7874-4312-944F-CE512651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C49-3BB0-4631-9B8B-D11E2391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64F-6083-4BB4-9A60-DE3CE13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DE5E-C3CC-4F4A-A02E-65A7FCB4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9.xml"/><Relationship Id="rId16" Type="http://schemas.openxmlformats.org/officeDocument/2006/relationships/slide" Target="slide9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19.xml"/><Relationship Id="rId24" Type="http://schemas.openxmlformats.org/officeDocument/2006/relationships/slide" Target="slide19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29.xml"/><Relationship Id="rId32" Type="http://schemas.openxmlformats.org/officeDocument/2006/relationships/slide" Target="slide29.xml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tocols of the Elders of Z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ason given for not bombing Auschwit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o far for planes to fly – not pos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n who tried to warn America about what he witnessed in the ghettos and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n Kars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reaction of American churches to the plight of the J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US National Security Advisor Breckinridge Long did this in 19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t immigration quotas in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people were responsible for transporting bodies from the gas chambers to the crema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4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1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3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4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20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609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Sem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nderkomman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an was honored as a leader of the Warsaw Ghetto Upri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decai Anielewic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in Germany to expand living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ra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one’s own religion, ethnicity, or political views are superior to all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thnocent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vement to create a Jewish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io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who mounted an armed resistance as a way to resist the Naz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ws are a race who are members of the tribe of Judah – T or 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rogram of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bensbo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tudy of controlled selective br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uge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you ready for final jeopar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oundation or early stage of the hate/violenc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s of indirect prejudice like jokes, rumors, stereoty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elief that Jews murdered children for their blood for religious ceremo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ood Li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pposed secret plan for a Jewish take over of the world, which was 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Sysop</cp:lastModifiedBy>
  <dcterms:modified xsi:type="dcterms:W3CDTF">2008-11-26T16:09:56Z</dcterms:modified>
  <cp:revision>17</cp:revision>
  <dc:subject/>
  <dc:title>PowerPoint Presentation</dc:title>
</cp:coreProperties>
</file>