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E4E-594F-421D-B282-9CA96A37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FEE-62DB-4564-8146-028171FC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649-CFA0-46E2-B6B8-F6C1CE5D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55C-3A01-4DC9-9EB8-4E244925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E4D-7CE0-4A07-83C1-2DE48C24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C27-9D96-4E40-B487-13A7D9CD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C6A-84F9-4D79-A2F5-898BCADF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DBD-5C85-4740-A90A-B44B85BE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A1A-1C17-40AC-9A35-83645EA5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7F5-3931-40AA-9B1F-2D67A43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618-D356-46F4-9578-EFF5981E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16F-9783-462B-A311-752086C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C4FA-D7D9-4B49-BA94-1B99EBE47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23.xml"/><Relationship Id="rId14" Type="http://schemas.openxmlformats.org/officeDocument/2006/relationships/slide" Target="slide23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1.xml"/><Relationship Id="rId20" Type="http://schemas.openxmlformats.org/officeDocument/2006/relationships/slide" Target="slide11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19.xml"/><Relationship Id="rId24" Type="http://schemas.openxmlformats.org/officeDocument/2006/relationships/slide" Target="slide19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29.xml"/><Relationship Id="rId32" Type="http://schemas.openxmlformats.org/officeDocument/2006/relationships/slide" Target="slide29.xml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tocols of the Elders of Z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ason given for not bombing Auschwit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o far for planes to fly – not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who tried to warn America about what he witnessed in the ghettos and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n Kars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the reaction of American churches to the plight of the J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US National Security Advisor Breckinridge Long did this in 19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t immigration quotas in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people were responsible for transporting bodies from the gas chambers to the crema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609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-Sem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nderkomman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n was honored as a leader of the Warsaw Ghetto Upr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decai Anielewic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in Germany to expand living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r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one’s own religion, ethnicity, or political views are superior to all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nocent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vement to create a Jewish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Zio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 who mounted an armed resistance as a way to resist the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ws are a race who are members of the tribe of Judah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s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of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bo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of controlled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ge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final jeopar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oundation or early stage of the hate/violenc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s of indirect prejudice like jokes, rumors, stereo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Jews murdered children for their blood for religious ceremo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ood Li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pposed secret plan for a Jewish take over of the world, which was a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6:09:56Z</dcterms:modified>
  <cp:revision>17</cp:revision>
  <dc:subject/>
  <dc:title>PowerPoint Presentation</dc:title>
</cp:coreProperties>
</file>