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E20-437F-4FA5-AB3B-B2B92DDF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25E-323C-4C44-B9F3-6CBAF66A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99F-E7F7-413F-9673-502C4648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F61-4788-4C55-9C04-3908218B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827-C25F-41FE-9310-E22CF272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F1C-BDD8-4D23-9057-902DFF7A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06F-ABCB-4414-8976-D34D9551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5F4-B507-4006-A960-9816E2A6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3DB-CCB9-452C-BD5C-BAFC72B7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D50-C44A-4315-8F94-F606FF8F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EE6-6EE5-4C3C-81B8-8910CEDC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A63-4AB1-4245-84AA-70F9FF55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0767-39B3-422C-B201-F96E4ED63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23.xml"/><Relationship Id="rId14" Type="http://schemas.openxmlformats.org/officeDocument/2006/relationships/slide" Target="slide23.xm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slide" Target="slide11.xml"/><Relationship Id="rId20" Type="http://schemas.openxmlformats.org/officeDocument/2006/relationships/slide" Target="slide11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19.xml"/><Relationship Id="rId24" Type="http://schemas.openxmlformats.org/officeDocument/2006/relationships/slide" Target="slide19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29.xml"/><Relationship Id="rId32" Type="http://schemas.openxmlformats.org/officeDocument/2006/relationships/slide" Target="slide29.xml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tocols of the Elders of Z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eason given for not bombing Auschwit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o far for planes to fly – not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n who tried to warn America about what he witnessed in the ghettos and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n Kars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the reaction of American churches to the plight of the J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US National Security Advisor Breckinridge Long did this in 19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t immigration quotas in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people were responsible for transporting bodies from the gas chambers to the crema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609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-Sem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nderkomman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an was honored as a leader of the Warsaw Ghetto Upr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decai Anielewic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 in Germany to expand living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bensra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lief that one’s own religion, ethnicity, or political views are superior to all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hnocent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vement to create a Jewish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Zio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ople who mounted an armed resistance as a way to resist the Naz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ws are a race who are members of the tribe of Judah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s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 of selective br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bensbo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tudy of controlled selective br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ge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you ready for final jeopar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oundation or early stage of the hate/violence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s of indirect prejudice like jokes, rumors, stereo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lief that Jews murdered children for their blood for religious ceremo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ood Lib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upposed secret plan for a Jewish take over of the world, which was a fo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Sysop</cp:lastModifiedBy>
  <dcterms:modified xsi:type="dcterms:W3CDTF">2008-11-26T16:09:56Z</dcterms:modified>
  <cp:revision>17</cp:revision>
  <dc:subject/>
  <dc:title>PowerPoint Presentation</dc:title>
</cp:coreProperties>
</file>