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CD5-95A0-41BC-A73B-98E07857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4AE-12AF-4CCF-A443-DCC8AB4B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E6F-42E8-4DE6-A095-B511000F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DBCB-5891-45BE-897C-50978772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E80-CC6D-4297-8883-26454636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E5F-7FD6-4FEB-84BE-84B6299E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116E-3B6A-409E-9F15-407E37E2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54E-F29E-47A4-B86B-CA601604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E060-5648-433D-87F5-C990A55C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55C-C967-4554-BDAC-B70833B0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489-DC06-4BDC-9B36-024A9986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12C-0EFF-4F68-945D-AA0A430A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D4E8-5661-40BE-95AA-04FC935F1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7.xml"/><Relationship Id="rId14" Type="http://schemas.openxmlformats.org/officeDocument/2006/relationships/slide" Target="slide7.xml"/><Relationship Id="rId15" Type="http://schemas.openxmlformats.org/officeDocument/2006/relationships/slide" Target="slide23.xml"/><Relationship Id="rId16" Type="http://schemas.openxmlformats.org/officeDocument/2006/relationships/slide" Target="slide23.xml"/><Relationship Id="rId17" Type="http://schemas.openxmlformats.org/officeDocument/2006/relationships/slide" Target="slide9.xml"/><Relationship Id="rId18" Type="http://schemas.openxmlformats.org/officeDocument/2006/relationships/slide" Target="slide9.xml"/><Relationship Id="rId19" Type="http://schemas.openxmlformats.org/officeDocument/2006/relationships/slide" Target="slide15.xml"/><Relationship Id="rId20" Type="http://schemas.openxmlformats.org/officeDocument/2006/relationships/slide" Target="slide15.xml"/><Relationship Id="rId21" Type="http://schemas.openxmlformats.org/officeDocument/2006/relationships/slide" Target="slide11.xml"/><Relationship Id="rId22" Type="http://schemas.openxmlformats.org/officeDocument/2006/relationships/slide" Target="slide11.xml"/><Relationship Id="rId23" Type="http://schemas.openxmlformats.org/officeDocument/2006/relationships/slide" Target="slide21.xml"/><Relationship Id="rId24" Type="http://schemas.openxmlformats.org/officeDocument/2006/relationships/slide" Target="slide21.xml"/><Relationship Id="rId25" Type="http://schemas.openxmlformats.org/officeDocument/2006/relationships/slide" Target="slide19.xml"/><Relationship Id="rId26" Type="http://schemas.openxmlformats.org/officeDocument/2006/relationships/slide" Target="slide19.xml"/><Relationship Id="rId27" Type="http://schemas.openxmlformats.org/officeDocument/2006/relationships/slide" Target="slide27.xml"/><Relationship Id="rId28" Type="http://schemas.openxmlformats.org/officeDocument/2006/relationships/slide" Target="slide27.xml"/><Relationship Id="rId29" Type="http://schemas.openxmlformats.org/officeDocument/2006/relationships/slide" Target="slide31.xml"/><Relationship Id="rId30" Type="http://schemas.openxmlformats.org/officeDocument/2006/relationships/slide" Target="slide31.xml"/><Relationship Id="rId31" Type="http://schemas.openxmlformats.org/officeDocument/2006/relationships/slide" Target="slide33.xml"/><Relationship Id="rId32" Type="http://schemas.openxmlformats.org/officeDocument/2006/relationships/slide" Target="slide33.xml"/><Relationship Id="rId33" Type="http://schemas.openxmlformats.org/officeDocument/2006/relationships/slide" Target="slide29.xml"/><Relationship Id="rId34" Type="http://schemas.openxmlformats.org/officeDocument/2006/relationships/slide" Target="slide29.xml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s for the g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a pencil and paper to keep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next screen,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 the Question and decide on your ans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 button.  If you’re right, add your points in the            to your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button to go back to try another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y? 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go the the Jeopardy boa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 the “Esc” button on the keyboard to end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267080" y="30481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4343400" y="3962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3752" y="3837"/>
                </a:moveTo>
                <a:lnTo>
                  <a:pt x="26328" y="6448"/>
                </a:ln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lnTo>
                  <a:pt x="30715" y="10800"/>
                </a:lnTo>
                <a:lnTo>
                  <a:pt x="29061" y="10800"/>
                </a:lnTo>
                <a:lnTo>
                  <a:pt x="29061" y="17989"/>
                </a:lnTo>
                <a:lnTo>
                  <a:pt x="18443" y="17989"/>
                </a:lnTo>
                <a:lnTo>
                  <a:pt x="18443" y="10800"/>
                </a:lnTo>
                <a:lnTo>
                  <a:pt x="16789" y="10800"/>
                </a:lnTo>
                <a:close/>
              </a:path>
              <a:path fill="darkenLess" w="47504" h="21600">
                <a:moveTo>
                  <a:pt x="26328" y="6448"/>
                </a:move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close/>
              </a:path>
              <a:path fill="darkenLess" w="47504" h="21600">
                <a:moveTo>
                  <a:pt x="22829" y="14299"/>
                </a:moveTo>
                <a:lnTo>
                  <a:pt x="24674" y="14299"/>
                </a:lnTo>
                <a:lnTo>
                  <a:pt x="24674" y="17989"/>
                </a:lnTo>
                <a:lnTo>
                  <a:pt x="29061" y="17989"/>
                </a:lnTo>
                <a:lnTo>
                  <a:pt x="29061" y="10800"/>
                </a:lnTo>
                <a:lnTo>
                  <a:pt x="18443" y="10800"/>
                </a:lnTo>
                <a:lnTo>
                  <a:pt x="18443" y="17989"/>
                </a:lnTo>
                <a:lnTo>
                  <a:pt x="22829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352680"/>
            <a:ext cx="761760" cy="53352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ight wee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w to protect German blood and honor was Jews could not fly the Reich Flag – T or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inister of Propa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seph Goebb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ercentage of Germans who were registered Naz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tler proclaimed Christianity the state religion – T or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group of victims was considered “asocia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83808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83808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Q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504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Q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504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Q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Q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504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Q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504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Q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Q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3896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3896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Q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3896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Q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4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3896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Q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6553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Alma Row (5/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228600"/>
            <a:ext cx="1600200" cy="816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Question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poi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33-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ct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yps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group was permitted only a limited 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group was so trusted they served as domestic servants for the Nazis in the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ehovah’s Witn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fter the war, this group was not recognized as victims of Nazi pers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mosex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ipping people of their basic dignity is call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hum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porting Jews from the ghettos to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oal of the first concentration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por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Jewish prayer for the d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add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word meaning “people” in Ger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o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838080"/>
            <a:ext cx="7238880" cy="5181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752480"/>
            <a:ext cx="5562360" cy="3429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Game Over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4572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657600"/>
            <a:ext cx="3429000" cy="25146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146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066680"/>
            <a:ext cx="3657600" cy="18288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838080"/>
            <a:ext cx="380988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09480"/>
            <a:ext cx="4190760" cy="289584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362320"/>
            <a:ext cx="472464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895480"/>
            <a:ext cx="373392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you ready for round 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457200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53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02" h="21600">
                <a:moveTo>
                  <a:pt x="16406" y="14281"/>
                </a:moveTo>
                <a:lnTo>
                  <a:pt x="16406" y="12323"/>
                </a:lnTo>
                <a:cubicBezTo>
                  <a:pt x="16406" y="11496"/>
                  <a:pt x="16737" y="10800"/>
                  <a:pt x="17338" y="10800"/>
                </a:cubicBezTo>
                <a:cubicBezTo>
                  <a:pt x="18469" y="10800"/>
                  <a:pt x="19366" y="9434"/>
                  <a:pt x="19366" y="7849"/>
                </a:cubicBezTo>
                <a:cubicBezTo>
                  <a:pt x="19366" y="5534"/>
                  <a:pt x="17512" y="3794"/>
                  <a:pt x="15301" y="3794"/>
                </a:cubicBezTo>
                <a:cubicBezTo>
                  <a:pt x="13090" y="3794"/>
                  <a:pt x="11419" y="5534"/>
                  <a:pt x="11419" y="7849"/>
                </a:cubicBezTo>
                <a:lnTo>
                  <a:pt x="13273" y="7849"/>
                </a:lnTo>
                <a:cubicBezTo>
                  <a:pt x="13273" y="6709"/>
                  <a:pt x="14196" y="5821"/>
                  <a:pt x="15301" y="5821"/>
                </a:cubicBezTo>
                <a:cubicBezTo>
                  <a:pt x="16406" y="5821"/>
                  <a:pt x="17338" y="6709"/>
                  <a:pt x="17338" y="7849"/>
                </a:cubicBezTo>
                <a:cubicBezTo>
                  <a:pt x="17338" y="8589"/>
                  <a:pt x="16868" y="9320"/>
                  <a:pt x="16406" y="9320"/>
                </a:cubicBezTo>
                <a:cubicBezTo>
                  <a:pt x="15301" y="9320"/>
                  <a:pt x="14196" y="10800"/>
                  <a:pt x="14196" y="12323"/>
                </a:cubicBezTo>
                <a:lnTo>
                  <a:pt x="14196" y="14281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habilitate political priso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irst concentration c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ch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n responsible for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. Meng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verage life span in c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5T19:43:30Z</dcterms:created>
  <dc:creator>Alma Row</dc:creator>
  <dc:description/>
  <dc:language>en-US</dc:language>
  <cp:lastModifiedBy>Sysop</cp:lastModifiedBy>
  <dcterms:modified xsi:type="dcterms:W3CDTF">2008-11-26T15:26:25Z</dcterms:modified>
  <cp:revision>16</cp:revision>
  <dc:subject/>
  <dc:title>PowerPoint Presentation</dc:title>
</cp:coreProperties>
</file>