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40E-BFE9-49F8-AE21-1A8F4F71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F0B-05D4-4500-A6E1-561A6C06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022E-FEE0-4CF3-AD59-AA011BFE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3616-41F9-4E65-8C17-4726F360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9589-4E16-4D98-B106-81EB9A6B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2949-BA31-4B23-B364-440435B8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824D-6F00-48F2-AAB4-E85FB4DC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0983-DD2B-40DB-AACA-D8FF93C7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5B66-B256-4B78-8895-1F10496A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1037-E208-44F3-A9D5-F94A8602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13D6-A5B5-44A5-868F-9BAF9DFD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2427-121A-422C-9D41-0FCAA6A7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BD83-58F2-4BA7-A15E-41E941B4D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0.xm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25.xml"/><Relationship Id="rId8" Type="http://schemas.openxmlformats.org/officeDocument/2006/relationships/slide" Target="slide25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7.xml"/><Relationship Id="rId14" Type="http://schemas.openxmlformats.org/officeDocument/2006/relationships/slide" Target="slide7.xml"/><Relationship Id="rId15" Type="http://schemas.openxmlformats.org/officeDocument/2006/relationships/slide" Target="slide23.xml"/><Relationship Id="rId16" Type="http://schemas.openxmlformats.org/officeDocument/2006/relationships/slide" Target="slide23.xml"/><Relationship Id="rId17" Type="http://schemas.openxmlformats.org/officeDocument/2006/relationships/slide" Target="slide9.xml"/><Relationship Id="rId18" Type="http://schemas.openxmlformats.org/officeDocument/2006/relationships/slide" Target="slide9.xml"/><Relationship Id="rId19" Type="http://schemas.openxmlformats.org/officeDocument/2006/relationships/slide" Target="slide15.xml"/><Relationship Id="rId20" Type="http://schemas.openxmlformats.org/officeDocument/2006/relationships/slide" Target="slide15.xml"/><Relationship Id="rId21" Type="http://schemas.openxmlformats.org/officeDocument/2006/relationships/slide" Target="slide11.xml"/><Relationship Id="rId22" Type="http://schemas.openxmlformats.org/officeDocument/2006/relationships/slide" Target="slide11.xml"/><Relationship Id="rId23" Type="http://schemas.openxmlformats.org/officeDocument/2006/relationships/slide" Target="slide21.xml"/><Relationship Id="rId24" Type="http://schemas.openxmlformats.org/officeDocument/2006/relationships/slide" Target="slide21.xml"/><Relationship Id="rId25" Type="http://schemas.openxmlformats.org/officeDocument/2006/relationships/slide" Target="slide19.xml"/><Relationship Id="rId26" Type="http://schemas.openxmlformats.org/officeDocument/2006/relationships/slide" Target="slide19.xml"/><Relationship Id="rId27" Type="http://schemas.openxmlformats.org/officeDocument/2006/relationships/slide" Target="slide27.xml"/><Relationship Id="rId28" Type="http://schemas.openxmlformats.org/officeDocument/2006/relationships/slide" Target="slide27.xml"/><Relationship Id="rId29" Type="http://schemas.openxmlformats.org/officeDocument/2006/relationships/slide" Target="slide31.xml"/><Relationship Id="rId30" Type="http://schemas.openxmlformats.org/officeDocument/2006/relationships/slide" Target="slide31.xml"/><Relationship Id="rId31" Type="http://schemas.openxmlformats.org/officeDocument/2006/relationships/slide" Target="slide33.xml"/><Relationship Id="rId32" Type="http://schemas.openxmlformats.org/officeDocument/2006/relationships/slide" Target="slide33.xml"/><Relationship Id="rId33" Type="http://schemas.openxmlformats.org/officeDocument/2006/relationships/slide" Target="slide29.xml"/><Relationship Id="rId34" Type="http://schemas.openxmlformats.org/officeDocument/2006/relationships/slide" Target="slide29.xml"/><Relationship Id="rId3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1.xml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Elephant"/>
              </a:rPr>
              <a:t>Jeopard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91440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s for the g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will need a pencil and paper to keep sc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next screen, 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 the Question and decide on your answ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               button.  If you’re right, add your points in the            to your to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              button to go back to try another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y?  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go the the Jeopardy boar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s the “Esc” button on the keyboard to end the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ave fu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267080" y="304812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4343400" y="39625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23752" y="3837"/>
                </a:moveTo>
                <a:lnTo>
                  <a:pt x="26328" y="6448"/>
                </a:ln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lnTo>
                  <a:pt x="30715" y="10800"/>
                </a:lnTo>
                <a:lnTo>
                  <a:pt x="29061" y="10800"/>
                </a:lnTo>
                <a:lnTo>
                  <a:pt x="29061" y="17989"/>
                </a:lnTo>
                <a:lnTo>
                  <a:pt x="18443" y="17989"/>
                </a:lnTo>
                <a:lnTo>
                  <a:pt x="18443" y="10800"/>
                </a:lnTo>
                <a:lnTo>
                  <a:pt x="16789" y="10800"/>
                </a:lnTo>
                <a:close/>
              </a:path>
              <a:path fill="darkenLess" w="47504" h="21600">
                <a:moveTo>
                  <a:pt x="26328" y="6448"/>
                </a:move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close/>
              </a:path>
              <a:path fill="darkenLess" w="47504" h="21600">
                <a:moveTo>
                  <a:pt x="22829" y="14299"/>
                </a:moveTo>
                <a:lnTo>
                  <a:pt x="24674" y="14299"/>
                </a:lnTo>
                <a:lnTo>
                  <a:pt x="24674" y="17989"/>
                </a:lnTo>
                <a:lnTo>
                  <a:pt x="29061" y="17989"/>
                </a:lnTo>
                <a:lnTo>
                  <a:pt x="29061" y="10800"/>
                </a:lnTo>
                <a:lnTo>
                  <a:pt x="18443" y="10800"/>
                </a:lnTo>
                <a:lnTo>
                  <a:pt x="18443" y="17989"/>
                </a:lnTo>
                <a:lnTo>
                  <a:pt x="22829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3352680"/>
            <a:ext cx="761760" cy="53352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ight wee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w to protect German blood and honor was Jews could not fly the Reich Flag – T or 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inister of Propag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oseph Goebb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ercentage of Germans who were registered Naz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itler proclaimed Christianity the state religion – T or 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group of victims was considered “asocia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83808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83808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Q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0504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Q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0504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Q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Q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Q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Q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0504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Q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0504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Q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Q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5" action="ppaction://hlinksldjump"/>
              </a:rPr>
              <a:t>Q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3896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7" action="ppaction://hlinksldjump"/>
              </a:rPr>
              <a:t>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3896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9" action="ppaction://hlinksldjump"/>
              </a:rPr>
              <a:t>Q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3896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1" action="ppaction://hlinksldjump"/>
              </a:rPr>
              <a:t>Q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4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3896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3" action="ppaction://hlinksldjump"/>
              </a:rPr>
              <a:t>Q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4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30492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Elephant"/>
              </a:rPr>
              <a:t>Jeopar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990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6553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Alma Row (5/0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228600"/>
            <a:ext cx="1600200" cy="816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Question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point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990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33-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990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ct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990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yps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group was permitted only a limited edu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o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group was so trusted they served as domestic servants for the Nazis in the c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ehovah’s Witn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fter the war, this group was not recognized as victims of Nazi pers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mosexu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ipping people of their basic dignity is call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hum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porting Jews from the ghettos to c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goal of the first concentration c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por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68580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Jewish prayer for the d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add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word meaning “people” in Germ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Vol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8580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80880"/>
            <a:ext cx="8229600" cy="60962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838080"/>
            <a:ext cx="7238880" cy="51818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1752480"/>
            <a:ext cx="5562360" cy="34290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Game Over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4572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3657600"/>
            <a:ext cx="3429000" cy="25146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5146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1066680"/>
            <a:ext cx="3657600" cy="18288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838080"/>
            <a:ext cx="3809880" cy="22860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609480"/>
            <a:ext cx="4190760" cy="289584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2362320"/>
            <a:ext cx="472464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2895480"/>
            <a:ext cx="3733920" cy="22860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e you ready for round 2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4572000"/>
            <a:ext cx="1295640" cy="914400"/>
          </a:xfrm>
          <a:custGeom>
            <a:avLst/>
            <a:gdLst>
              <a:gd name="textAreaLeft" fmla="*/ 59040 w 1295640"/>
              <a:gd name="textAreaRight" fmla="*/ 1236600 w 12956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602" h="21600">
                <a:moveTo>
                  <a:pt x="0" y="0"/>
                </a:moveTo>
                <a:lnTo>
                  <a:pt x="30602" y="0"/>
                </a:lnTo>
                <a:lnTo>
                  <a:pt x="30602" y="21600"/>
                </a:lnTo>
                <a:lnTo>
                  <a:pt x="0" y="21600"/>
                </a:lnTo>
                <a:close/>
              </a:path>
              <a:path fill="lightenLess" w="30602" h="21600">
                <a:moveTo>
                  <a:pt x="0" y="0"/>
                </a:moveTo>
                <a:lnTo>
                  <a:pt x="30602" y="0"/>
                </a:lnTo>
                <a:lnTo>
                  <a:pt x="29202" y="1400"/>
                </a:lnTo>
                <a:lnTo>
                  <a:pt x="1400" y="1400"/>
                </a:lnTo>
                <a:close/>
              </a:path>
              <a:path fill="darken" w="30602" h="21600">
                <a:moveTo>
                  <a:pt x="30602" y="0"/>
                </a:moveTo>
                <a:lnTo>
                  <a:pt x="30602" y="21600"/>
                </a:lnTo>
                <a:lnTo>
                  <a:pt x="29202" y="20200"/>
                </a:lnTo>
                <a:lnTo>
                  <a:pt x="29202" y="1400"/>
                </a:lnTo>
                <a:close/>
              </a:path>
              <a:path fill="darkenLess" w="30602" h="21600">
                <a:moveTo>
                  <a:pt x="30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02" y="20200"/>
                </a:lnTo>
                <a:close/>
              </a:path>
              <a:path fill="lighten" w="30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02" h="21600">
                <a:moveTo>
                  <a:pt x="153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602" h="21600">
                <a:moveTo>
                  <a:pt x="16406" y="14281"/>
                </a:moveTo>
                <a:lnTo>
                  <a:pt x="16406" y="12323"/>
                </a:lnTo>
                <a:cubicBezTo>
                  <a:pt x="16406" y="11496"/>
                  <a:pt x="16737" y="10800"/>
                  <a:pt x="17338" y="10800"/>
                </a:cubicBezTo>
                <a:cubicBezTo>
                  <a:pt x="18469" y="10800"/>
                  <a:pt x="19366" y="9434"/>
                  <a:pt x="19366" y="7849"/>
                </a:cubicBezTo>
                <a:cubicBezTo>
                  <a:pt x="19366" y="5534"/>
                  <a:pt x="17512" y="3794"/>
                  <a:pt x="15301" y="3794"/>
                </a:cubicBezTo>
                <a:cubicBezTo>
                  <a:pt x="13090" y="3794"/>
                  <a:pt x="11419" y="5534"/>
                  <a:pt x="11419" y="7849"/>
                </a:cubicBezTo>
                <a:lnTo>
                  <a:pt x="13273" y="7849"/>
                </a:lnTo>
                <a:cubicBezTo>
                  <a:pt x="13273" y="6709"/>
                  <a:pt x="14196" y="5821"/>
                  <a:pt x="15301" y="5821"/>
                </a:cubicBezTo>
                <a:cubicBezTo>
                  <a:pt x="16406" y="5821"/>
                  <a:pt x="17338" y="6709"/>
                  <a:pt x="17338" y="7849"/>
                </a:cubicBezTo>
                <a:cubicBezTo>
                  <a:pt x="17338" y="8589"/>
                  <a:pt x="16868" y="9320"/>
                  <a:pt x="16406" y="9320"/>
                </a:cubicBezTo>
                <a:cubicBezTo>
                  <a:pt x="15301" y="9320"/>
                  <a:pt x="14196" y="10800"/>
                  <a:pt x="14196" y="12323"/>
                </a:cubicBezTo>
                <a:lnTo>
                  <a:pt x="14196" y="14281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habilitate political priso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first concentration c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ch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an responsible for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r. Meng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verage life span in c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5T19:43:30Z</dcterms:created>
  <dc:creator>Alma Row</dc:creator>
  <dc:description/>
  <dc:language>en-US</dc:language>
  <cp:lastModifiedBy>Sysop</cp:lastModifiedBy>
  <dcterms:modified xsi:type="dcterms:W3CDTF">2008-11-26T15:26:25Z</dcterms:modified>
  <cp:revision>16</cp:revision>
  <dc:subject/>
  <dc:title>PowerPoint Presentation</dc:title>
</cp:coreProperties>
</file>