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919-36B0-4A1D-BD0E-B2838DBE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DF1-2E4C-4DE9-89B1-2ED7434A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FB2-57B0-4AF1-AB1B-214CB291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E2F-6E18-4DB4-B5DB-17CA7A68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0DD-A6E2-4BE7-98D5-4C53C41C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48C-B7C7-47C8-B95F-320FBAD3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CB0-3022-4F67-9CAA-CDD83099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7B5-C6B5-4253-B8CE-3381DD6A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D87-AC61-4E9F-832A-6F8030D5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124-766C-45EE-B864-EFF2BB24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169-E150-4613-8F0D-429EFFED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A34-00F6-4EDA-B0E7-56AF44D9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0A65-C175-4A9D-B8D9-D68EF8D81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9.xml"/><Relationship Id="rId18" Type="http://schemas.openxmlformats.org/officeDocument/2006/relationships/slide" Target="slide9.xml"/><Relationship Id="rId19" Type="http://schemas.openxmlformats.org/officeDocument/2006/relationships/slide" Target="slide15.xml"/><Relationship Id="rId20" Type="http://schemas.openxmlformats.org/officeDocument/2006/relationships/slide" Target="slide15.xml"/><Relationship Id="rId21" Type="http://schemas.openxmlformats.org/officeDocument/2006/relationships/slide" Target="slide11.xml"/><Relationship Id="rId22" Type="http://schemas.openxmlformats.org/officeDocument/2006/relationships/slide" Target="slide11.xml"/><Relationship Id="rId23" Type="http://schemas.openxmlformats.org/officeDocument/2006/relationships/slide" Target="slide21.xml"/><Relationship Id="rId24" Type="http://schemas.openxmlformats.org/officeDocument/2006/relationships/slide" Target="slide21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" Target="slide27.xml"/><Relationship Id="rId28" Type="http://schemas.openxmlformats.org/officeDocument/2006/relationships/slide" Target="slide27.xml"/><Relationship Id="rId29" Type="http://schemas.openxmlformats.org/officeDocument/2006/relationships/slide" Target="slide31.xml"/><Relationship Id="rId30" Type="http://schemas.openxmlformats.org/officeDocument/2006/relationships/slide" Target="slide31.xml"/><Relationship Id="rId31" Type="http://schemas.openxmlformats.org/officeDocument/2006/relationships/slide" Target="slide33.xml"/><Relationship Id="rId32" Type="http://schemas.openxmlformats.org/officeDocument/2006/relationships/slide" Target="slide33.xml"/><Relationship Id="rId33" Type="http://schemas.openxmlformats.org/officeDocument/2006/relationships/slide" Target="slide29.xml"/><Relationship Id="rId34" Type="http://schemas.openxmlformats.org/officeDocument/2006/relationships/slide" Target="slide2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ight wee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w to protect German blood and honor was Jews could not fly the Reich Flag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inister of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seph Goebb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ercentage of Germans who were registered Naz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tler proclaimed Christianity the state religion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of victims was considered “asocia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4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33-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ct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yps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was permitted only a limited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was so trusted they served as domestic servants for the Nazis in the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hovah’s Witn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fter the war, this group was not recognized as victims of Nazi pers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osex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ipping people of their basic dignity is cal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hum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porting Jews from the ghettos to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oal of the first concentration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Jewish prayer for the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add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 meaning “people” in Ger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o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you ready for round 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habilitate political priso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irst concentration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ch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n responsible for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. Meng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verage life span in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Sysop</cp:lastModifiedBy>
  <dcterms:modified xsi:type="dcterms:W3CDTF">2008-11-26T15:26:25Z</dcterms:modified>
  <cp:revision>16</cp:revision>
  <dc:subject/>
  <dc:title>PowerPoint Presentation</dc:title>
</cp:coreProperties>
</file>