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E89-EEA1-4719-91EF-09AE2523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CE3-4D40-4BF1-8365-DC7FD753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9DC-4123-4D2F-90D9-DDB78DC6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4FD9-561A-4A8E-B990-9A7142A3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8E4-91D5-4D71-8D76-8AA6DD39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E4F-C0EA-4F8D-9CC6-9CF43409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CFA-7A66-43B7-81AA-29D1C09D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8E1-8098-494C-89E8-17153E7F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C46-4DD0-4818-87E0-6652C082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49E-CA87-4625-B96E-2EA814BF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C63-D46F-46A2-A685-1E178606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7C4-CE66-44A1-960A-939A2780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F6EC-6B75-4B2B-9117-BC3D6613B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23.xml"/><Relationship Id="rId14" Type="http://schemas.openxmlformats.org/officeDocument/2006/relationships/slide" Target="slide23.xml"/><Relationship Id="rId15" Type="http://schemas.openxmlformats.org/officeDocument/2006/relationships/slide" Target="slide9.xml"/><Relationship Id="rId16" Type="http://schemas.openxmlformats.org/officeDocument/2006/relationships/slide" Target="slide9.xml"/><Relationship Id="rId17" Type="http://schemas.openxmlformats.org/officeDocument/2006/relationships/slide" Target="slide15.xml"/><Relationship Id="rId18" Type="http://schemas.openxmlformats.org/officeDocument/2006/relationships/slide" Target="slide15.xml"/><Relationship Id="rId19" Type="http://schemas.openxmlformats.org/officeDocument/2006/relationships/slide" Target="slide11.xml"/><Relationship Id="rId20" Type="http://schemas.openxmlformats.org/officeDocument/2006/relationships/slide" Target="slide11.xml"/><Relationship Id="rId21" Type="http://schemas.openxmlformats.org/officeDocument/2006/relationships/slide" Target="slide21.xml"/><Relationship Id="rId22" Type="http://schemas.openxmlformats.org/officeDocument/2006/relationships/slide" Target="slide21.xml"/><Relationship Id="rId23" Type="http://schemas.openxmlformats.org/officeDocument/2006/relationships/slide" Target="slide19.xml"/><Relationship Id="rId24" Type="http://schemas.openxmlformats.org/officeDocument/2006/relationships/slide" Target="slide19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31.xml"/><Relationship Id="rId28" Type="http://schemas.openxmlformats.org/officeDocument/2006/relationships/slide" Target="slide31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29.xml"/><Relationship Id="rId32" Type="http://schemas.openxmlformats.org/officeDocument/2006/relationships/slide" Target="slide29.xml"/><Relationship Id="rId3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s for the g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a pencil and paper to keep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xt screen,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 and decide on your ans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 button.  If you’re right, add your points in the            to your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button to go back to try another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? 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go the the Jeopardy bo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the “Esc” button on the keyboard to end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2670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4343400" y="3962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53352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tocols of the Elders of Z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eason given for not bombing Auschwit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o far for planes to fly – not pos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n who tried to warn America about what he witnessed in the ghettos and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n Kars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as the reaction of American churches to the plight of the J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US National Security Advisor Breckinridge Long did this in 19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t immigration quotas in ha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people were responsible for transporting bodies from the gas chambers to the crema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Q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504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Q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504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Q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Q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504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Q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Q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Q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3896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896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Q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Q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896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Q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609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i-Sem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Alma Row (5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28600"/>
            <a:ext cx="1600200" cy="81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Question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poi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nderkomman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man was honored as a leader of the Warsaw Ghetto Upri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decai Anielewic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gram in Germany to expand living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bensra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elief that one’s own religion, ethnicity, or political views are superior to all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thnocent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vement to create a Jewish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Zio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ople who mounted an armed resistance as a way to resist the Naz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ews are a race who are members of the tribe of Judah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s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gram of selective br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bensbo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tudy of controlled selective br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uge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838080"/>
            <a:ext cx="7238880" cy="5181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5562360" cy="3429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Game Ov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572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657600"/>
            <a:ext cx="3429000" cy="25146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146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66680"/>
            <a:ext cx="3657600" cy="18288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838080"/>
            <a:ext cx="380988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09480"/>
            <a:ext cx="4190760" cy="289584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362320"/>
            <a:ext cx="472464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373392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you ready for final jeopard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57200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53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02" h="21600">
                <a:moveTo>
                  <a:pt x="16406" y="14281"/>
                </a:moveTo>
                <a:lnTo>
                  <a:pt x="16406" y="12323"/>
                </a:lnTo>
                <a:cubicBezTo>
                  <a:pt x="16406" y="11496"/>
                  <a:pt x="16737" y="10800"/>
                  <a:pt x="17338" y="10800"/>
                </a:cubicBezTo>
                <a:cubicBezTo>
                  <a:pt x="18469" y="10800"/>
                  <a:pt x="19366" y="9434"/>
                  <a:pt x="19366" y="7849"/>
                </a:cubicBezTo>
                <a:cubicBezTo>
                  <a:pt x="19366" y="5534"/>
                  <a:pt x="17512" y="3794"/>
                  <a:pt x="15301" y="3794"/>
                </a:cubicBezTo>
                <a:cubicBezTo>
                  <a:pt x="13090" y="3794"/>
                  <a:pt x="11419" y="5534"/>
                  <a:pt x="11419" y="7849"/>
                </a:cubicBezTo>
                <a:lnTo>
                  <a:pt x="13273" y="7849"/>
                </a:lnTo>
                <a:cubicBezTo>
                  <a:pt x="13273" y="6709"/>
                  <a:pt x="14196" y="5821"/>
                  <a:pt x="15301" y="5821"/>
                </a:cubicBezTo>
                <a:cubicBezTo>
                  <a:pt x="16406" y="5821"/>
                  <a:pt x="17338" y="6709"/>
                  <a:pt x="17338" y="7849"/>
                </a:cubicBezTo>
                <a:cubicBezTo>
                  <a:pt x="17338" y="8589"/>
                  <a:pt x="16868" y="9320"/>
                  <a:pt x="16406" y="9320"/>
                </a:cubicBezTo>
                <a:cubicBezTo>
                  <a:pt x="15301" y="9320"/>
                  <a:pt x="14196" y="10800"/>
                  <a:pt x="14196" y="12323"/>
                </a:cubicBezTo>
                <a:lnTo>
                  <a:pt x="14196" y="1428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oundation or early stage of the hate/violence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ts of indirect prejudice like jokes, rumors, stereo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elief that Jews murdered children for their blood for religious ceremo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ood Lib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upposed secret plan for a Jewish take over of the world, which was a fo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19:43:30Z</dcterms:created>
  <dc:creator>Alma Row</dc:creator>
  <dc:description/>
  <dc:language>en-US</dc:language>
  <cp:lastModifiedBy>Sysop</cp:lastModifiedBy>
  <dcterms:modified xsi:type="dcterms:W3CDTF">2008-11-26T16:09:56Z</dcterms:modified>
  <cp:revision>17</cp:revision>
  <dc:subject/>
  <dc:title>PowerPoint Presentation</dc:title>
</cp:coreProperties>
</file>