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940-9D54-4910-B853-2028BA8E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AB5-AB52-4AE6-93FC-F6D0FB0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134-7C7F-4549-A4AD-E6494E5A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0B1-D49C-4EF0-87E7-B8C038F9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448-5EBA-4285-B00F-59B56C2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4D3-7A96-4A20-8DFC-7F002E4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5BF-624F-46A5-8C2B-9D53F4EE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9F7-142F-45F6-82D0-308281F0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1A6-3EA1-42A3-908F-E2DA85A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F41-8112-4835-87E3-2E6E6C26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1F8-7897-41E3-B4D7-5168598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AC1-5BD7-45AD-BA9B-BF20552F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EE26-4192-44B3-A2CA-80030109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29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tocols of the Elders of Z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son given for not bombing Auschwi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o far for planes to fly – not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who tried to warn America about what he witnessed in the ghettos and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n Kar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reaction of American churches to the plight of the J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US National Security Advisor Breckinridge Long did this in 19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t immigration quota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people were responsible for transporting bodies from the gas chambers to the crema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09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nderkom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n was honored as a leader of the Warsaw Ghetto Upr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decai Anielewic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in Germany to expand living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r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one’s own religion, ethnicity, or political views are superior to all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nocent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vement to create a Jewish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who mounted an armed resistance as a way to resist the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ws are a race who are members of the tribe of Judah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of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b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controlled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ge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final jeopar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ndation or early stage of the hate/violenc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s of indirect prejudice like jokes, rumors, stere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Jews murdered children for their blood for religious ceremo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ood Li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pposed secret plan for a Jewish take over of the world, which was 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6:09:56Z</dcterms:modified>
  <cp:revision>17</cp:revision>
  <dc:subject/>
  <dc:title>PowerPoint Presentation</dc:title>
</cp:coreProperties>
</file>