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8FA-7835-4EB6-8471-BFD4259A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75E-7F2B-4F12-8123-43FEA22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5A1-65BB-497B-B53D-23C1DF77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51A-F31D-4C63-B252-377CDB5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841-9F5B-41A6-90E9-595AC1BA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E30-98E9-47B9-9025-B9D2B42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79A-D2E3-4072-B5EB-1A3E9FF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2B3-DE91-4CB7-A896-56632B2B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9BB-6D5A-4DC5-AF6A-5EB932B6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5D0-7E02-49B4-8200-FAC2965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301-4D18-4E55-99DC-A8E6D38C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63B-816B-4F59-B24D-FD0871E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91F-20E2-4D74-8328-CDC8FE8F0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29.xml"/><Relationship Id="rId34" Type="http://schemas.openxmlformats.org/officeDocument/2006/relationships/slide" Target="slide2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ght w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w to protect German blood and honor was Jews could not fly the Reich Flag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nister of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Goeb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rcentage of Germans who were registered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tler proclaimed Christianity the state religion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of victims was considered “asoci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33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yp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permitted only a limited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so trusted they served as domestic servants for the Nazis in the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vah’s Wit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the war, this group was not recognized as victims of Nazi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sex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pping people of their basic dignity is ca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hum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porting Jews from the ghettos to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al of the first concentration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wish prayer for the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dd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 meaning “people” in Ger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round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habilitate political priso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concentratio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ch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responsible for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Meng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erage life span i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5:26:25Z</dcterms:modified>
  <cp:revision>16</cp:revision>
  <dc:subject/>
  <dc:title>PowerPoint Presentation</dc:title>
</cp:coreProperties>
</file>