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B649-1A78-496C-ACCC-A6B90E67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10C7-20F8-4A80-96BA-49FAC2D3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2E27-8796-499C-B0F5-D864EBEA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8164-44E8-4146-8773-DA2CA302A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E518-F802-45BB-9C85-DB83DA5F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297B-881F-4C44-BAF3-74013F0E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43C1-5BA4-4C14-A33B-636A92F8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2EB9-CAF2-453E-BE5A-7484DEF3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5A91-02E0-4C18-8AAB-8CB801BF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4F27-CB18-470D-ABE6-E86F656B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D351-EE83-4F64-8A31-37A4DEA9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740F-790D-4C5A-8A2C-8408B338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87A8-7731-4237-A45F-E5411B22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F31B-9506-4760-ACED-A0ECF628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32B7-1575-40EF-A014-457C0A50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4532-CEA9-4C4A-B6D0-94F78DC3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2CC3-0C70-4C53-AE85-5A0054FE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761C1-9D84-4CFD-AA5A-A5D002C8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98063-432D-48BA-8D2D-687397A1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93918-9197-43DB-8AFC-7B3105F1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497C4-78FC-4C59-9AA5-CDD56ED0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8ACA0-9DED-434B-AAEB-37240FA3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B09D-79E8-473C-85C6-E2639E6C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B7F6B-6E8A-4667-85C5-BC7AC52B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0CDB4-CE58-4C57-B9A5-C13BC6CA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A28C7-ACD4-43AD-AEC0-661F9EBF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26C54-F196-4403-B264-F3F8F017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56D20-9787-4A48-8F11-4CCDCD90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F0950-AABE-4002-A121-FCCFBFF8B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8CB40-B558-4F84-B223-0FE162BE1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890C6-6AB4-436D-8046-4A441A07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0A473-8970-4341-A484-AD188341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F6887-6EA9-457D-AA55-F8AF7156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EA85-AD3D-4196-BE0B-6D6BBC51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063AA-084E-46ED-A4A1-E2B3CA12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750F3-F156-4BBA-8F21-8CA57794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FF37F-DD21-47A2-BA2F-86D05D6B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FD297-2ECA-4025-8C4D-B184E6FB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DDDE2-2FD3-446F-BFA9-D4653FBD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1787D-8768-424D-AD7F-3507FC8F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56120-B365-426B-8E86-EF33FDAE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3578B-1D5F-4BA8-BF46-E96BDA03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1AF97-BF84-4EC9-BF14-1E1C2A5F7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852F3-E2B1-4B29-BDE9-82D8F15C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D0BE-EAD7-402E-84DF-E8BAF44C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8924B-8748-4E63-A99A-4BF425D3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25B20-1CE9-4D15-BBA4-2ABBF35A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17968-6A57-41DD-95B6-C45458F7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7477F-FCF2-4364-ACCD-EE39262F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DEB08-6725-4F31-B9E2-232D29D5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47ECB-8E4F-43A7-923E-D072AE3B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126AD-76BE-4DA9-9C3E-E02164FD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E0B8E-0BAA-466D-AEC6-B3979BF3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CA851-8063-4A6B-A398-E574B430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F8E52-34FF-441D-BFE0-B5920AA3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1EDB-6DFE-4831-851A-EE153C84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34718-BA60-4D2C-B331-A3FA3315A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2A35D-83AF-415B-8B51-C3E28BD5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9BCD8-0195-4F93-85DF-EB3F6C68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1E716-DF2A-4E47-8083-05FA5D92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82D6B-DB39-48F8-BE8A-714FFE93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5E464-7073-4E03-984D-0ACE4F3E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3D4C8-7BF7-47AD-95FF-E88B2197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56117-ABED-4AA3-9FE3-9676C569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B4B70-B008-4BF6-B821-68F101AF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47B52-E1C5-47F7-A186-8E1181E1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D8AD-BEF8-4172-BA46-4E191BF3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9C57A-8FFA-46AE-AAF5-77525398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8CAD0-DBBF-42B3-8982-51E6ABC16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0F7F1-BD8D-4508-A4AE-7F7ABFE3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9C7F9-5F84-4F08-AD05-895B0721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388BF-4885-4314-BB80-0629E3AD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60A16-571E-4435-8704-126142AE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2251F-CBA0-43A1-9CD0-CE701C70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8E42D-EF3F-4493-AB0E-33C62768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0B026-ACDE-41CD-90D2-6752CD56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B0BCA-8DCC-4C47-977E-6C0C47A3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0384-CEFC-40B2-873A-5C178773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B6C09-7BA7-45C0-A0DC-7583FAC6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C9604-1877-41CE-9C78-CC0C20CB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EF891-AA79-4C2F-84E2-38F4CC34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87942-E05F-4C91-A67F-4C65628E7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E12D7-1570-4D4A-8A22-CDE35F94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AAA9-19A4-4EEA-B1C8-3CB748E7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77AB-0439-4455-B67B-525CE65829A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1AAD-B470-45D7-8364-C8313A6AC8B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B4FF-61F6-4DE5-9E4B-FB08730A943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84B1-B29C-456B-A0CB-5B5EC2360CA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1768-ADE1-45C5-ACAE-367CF8557E3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EBA0-343B-42FF-81E6-3DC459E9357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6214-1E2B-4D86-91CE-AEDE7EDFF93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907920" y="4048200"/>
            <a:ext cx="7785360" cy="28764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EIGHT STAGES OF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1. CLASSIFIC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dentifies the targeted victim or victi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2" name="Picture 3" descr="jewish symbol.jpg"/>
          <p:cNvPicPr/>
          <p:nvPr/>
        </p:nvPicPr>
        <p:blipFill>
          <a:blip r:embed="rId1"/>
          <a:stretch/>
        </p:blipFill>
        <p:spPr>
          <a:xfrm>
            <a:off x="3492360" y="2558880"/>
            <a:ext cx="2159280" cy="17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2. SYMBOLIZ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4" name="Content Placeholder 3" descr="stars of david.jpg"/>
          <p:cNvPicPr/>
          <p:nvPr/>
        </p:nvPicPr>
        <p:blipFill>
          <a:blip r:embed="rId1"/>
          <a:stretch/>
        </p:blipFill>
        <p:spPr>
          <a:xfrm>
            <a:off x="3987720" y="2990880"/>
            <a:ext cx="16257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3. DEHUMANIZ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6" name="Content Placeholder 3" descr="dehumanization.jpg"/>
          <p:cNvPicPr/>
          <p:nvPr/>
        </p:nvPicPr>
        <p:blipFill>
          <a:blip r:embed="rId1"/>
          <a:stretch/>
        </p:blipFill>
        <p:spPr>
          <a:xfrm>
            <a:off x="1447920" y="1600200"/>
            <a:ext cx="2438280" cy="1873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Pol-jew1.jpg"/>
          <p:cNvPicPr/>
          <p:nvPr/>
        </p:nvPicPr>
        <p:blipFill>
          <a:blip r:embed="rId2"/>
          <a:stretch/>
        </p:blipFill>
        <p:spPr>
          <a:xfrm>
            <a:off x="4038480" y="2819520"/>
            <a:ext cx="442908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4. ORGANIZ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9" name="Content Placeholder 3" descr="ghetto wall.gif"/>
          <p:cNvPicPr/>
          <p:nvPr/>
        </p:nvPicPr>
        <p:blipFill>
          <a:blip r:embed="rId1"/>
          <a:stretch/>
        </p:blipFill>
        <p:spPr>
          <a:xfrm>
            <a:off x="1523880" y="1676520"/>
            <a:ext cx="2457720" cy="2112840"/>
          </a:xfrm>
          <a:prstGeom prst="rect">
            <a:avLst/>
          </a:prstGeom>
          <a:ln w="0">
            <a:noFill/>
          </a:ln>
        </p:spPr>
      </p:pic>
      <p:sp>
        <p:nvSpPr>
          <p:cNvPr id="380" name="TextBox 4"/>
          <p:cNvSpPr/>
          <p:nvPr/>
        </p:nvSpPr>
        <p:spPr>
          <a:xfrm>
            <a:off x="4343400" y="2209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Building Ghetto Wal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5. POLARIZ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ncentrating two groups by two conflicting positio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3" name="Picture 3" descr="swastika.jpg"/>
          <p:cNvPicPr/>
          <p:nvPr/>
        </p:nvPicPr>
        <p:blipFill>
          <a:blip r:embed="rId1"/>
          <a:stretch/>
        </p:blipFill>
        <p:spPr>
          <a:xfrm>
            <a:off x="1676520" y="2971800"/>
            <a:ext cx="1434960" cy="21589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yellowstar.jpg"/>
          <p:cNvPicPr/>
          <p:nvPr/>
        </p:nvPicPr>
        <p:blipFill>
          <a:blip r:embed="rId2"/>
          <a:stretch/>
        </p:blipFill>
        <p:spPr>
          <a:xfrm>
            <a:off x="4495680" y="3124080"/>
            <a:ext cx="198144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6. PREPAR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reating the methods, strategies, and infrastructure for Step 7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7" name="Picture 3" descr="auschwitz.jpg"/>
          <p:cNvPicPr/>
          <p:nvPr/>
        </p:nvPicPr>
        <p:blipFill>
          <a:blip r:embed="rId1"/>
          <a:stretch/>
        </p:blipFill>
        <p:spPr>
          <a:xfrm>
            <a:off x="1523880" y="3124080"/>
            <a:ext cx="2286000" cy="35323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gate.jpg"/>
          <p:cNvPicPr/>
          <p:nvPr/>
        </p:nvPicPr>
        <p:blipFill>
          <a:blip r:embed="rId2"/>
          <a:stretch/>
        </p:blipFill>
        <p:spPr>
          <a:xfrm>
            <a:off x="4724280" y="2971800"/>
            <a:ext cx="3426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7. EXTERMIN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0" name="Content Placeholder 3" descr="ovens.jpg"/>
          <p:cNvPicPr/>
          <p:nvPr/>
        </p:nvPicPr>
        <p:blipFill>
          <a:blip r:embed="rId1"/>
          <a:stretch/>
        </p:blipFill>
        <p:spPr>
          <a:xfrm>
            <a:off x="1143000" y="1600200"/>
            <a:ext cx="3354480" cy="2209680"/>
          </a:xfrm>
          <a:prstGeom prst="rect">
            <a:avLst/>
          </a:prstGeom>
          <a:ln w="0">
            <a:noFill/>
          </a:ln>
        </p:spPr>
      </p:pic>
      <p:sp>
        <p:nvSpPr>
          <p:cNvPr id="391" name="TextBox 4"/>
          <p:cNvSpPr/>
          <p:nvPr/>
        </p:nvSpPr>
        <p:spPr>
          <a:xfrm>
            <a:off x="5105520" y="21337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Ovens of Crematoriu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2" name="Picture 5" descr="armenian genocide.jpg"/>
          <p:cNvPicPr/>
          <p:nvPr/>
        </p:nvPicPr>
        <p:blipFill>
          <a:blip r:embed="rId2"/>
          <a:stretch/>
        </p:blipFill>
        <p:spPr>
          <a:xfrm>
            <a:off x="2743200" y="4114800"/>
            <a:ext cx="2870280" cy="1981080"/>
          </a:xfrm>
          <a:prstGeom prst="rect">
            <a:avLst/>
          </a:prstGeom>
          <a:ln w="0">
            <a:noFill/>
          </a:ln>
        </p:spPr>
      </p:pic>
      <p:sp>
        <p:nvSpPr>
          <p:cNvPr id="393" name="TextBox 6"/>
          <p:cNvSpPr/>
          <p:nvPr/>
        </p:nvSpPr>
        <p:spPr>
          <a:xfrm>
            <a:off x="5791320" y="44956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rmenian victim of death march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8. DENIA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5" name="Content Placeholder 3" descr="trials.jpg"/>
          <p:cNvPicPr/>
          <p:nvPr/>
        </p:nvPicPr>
        <p:blipFill>
          <a:blip r:embed="rId1"/>
          <a:stretch/>
        </p:blipFill>
        <p:spPr>
          <a:xfrm>
            <a:off x="1295280" y="1905120"/>
            <a:ext cx="2362320" cy="2997000"/>
          </a:xfrm>
          <a:prstGeom prst="rect">
            <a:avLst/>
          </a:prstGeom>
          <a:ln w="0">
            <a:noFill/>
          </a:ln>
        </p:spPr>
      </p:pic>
      <p:sp>
        <p:nvSpPr>
          <p:cNvPr id="396" name="TextBox 4"/>
          <p:cNvSpPr/>
          <p:nvPr/>
        </p:nvSpPr>
        <p:spPr>
          <a:xfrm>
            <a:off x="3886200" y="29718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Most perpetrators put on trial after the Holocaust ended  entered a “not guilty” plea.  Most perpetrators of genocide are never punished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6:48:36Z</dcterms:created>
  <dc:creator> </dc:creator>
  <dc:description/>
  <dc:language>en-US</dc:language>
  <cp:lastModifiedBy> </cp:lastModifiedBy>
  <dcterms:modified xsi:type="dcterms:W3CDTF">2010-02-09T17:24:46Z</dcterms:modified>
  <cp:revision>3</cp:revision>
  <dc:subject/>
  <dc:title>GENOCIDE</dc:title>
</cp:coreProperties>
</file>