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3A0-B224-4492-B558-33E7C5CB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A27-7E67-4B07-8E66-DFCB361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E43-71F8-48DA-ACCC-B271FB01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82F-60D7-4716-B8C1-C960885D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F838-528C-4604-BA88-4D08B30A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528-31CD-4BDB-BE3E-EEB396F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0727-40A6-42E9-9A6A-19DF063E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6988-ECF3-4620-8E8C-CEB61A64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9DC6-009C-457D-8FC4-115C969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0907-C821-4D1B-81F7-38739CA9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96E3-6F5A-49EA-B0C1-0612F4FB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86B-76E0-43A4-A40C-78A7054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3FA-1865-409F-86A6-2EB08A6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0509-7500-498C-AC5E-443E250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334F-7C66-48C5-894A-621044A0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ED0-03A3-4BE2-AADC-69B7D786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8A27-3318-4AA8-A3DC-CD730DAE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8B5C-B397-46CF-AC6F-748AB8D6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D9929-A46F-4672-8DCB-F3A97088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CB49-291E-4EFA-9426-2748719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83EB-02B0-45C4-B9B6-69D46379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1A642-1E55-4FD4-B40F-51F45B71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B18-B686-4F36-858F-76C536AC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3B51-262A-40CC-A9F4-AAB4287F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7BE4-DC4A-4BFA-88A9-BB2BD72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DD1C-4B2F-4A0E-8354-23A841A0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FBE67-20DE-4BEB-8A4F-0FC55DA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E626-2292-43D1-A429-3155B37F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D08E-E05E-4E62-B1BD-11B5141D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CA2B-4F75-47F0-82BB-BBF812CF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1C42F-FD60-476F-B818-412F3FE8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66725-277B-4CAE-A907-1E4DE66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F662-39CA-4693-9BC5-55E659F0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23F-7A77-44DD-989E-863AEBD0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211E-8C27-469A-AC10-3506874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D119-1D30-419B-9F31-3A2D2613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931B-2E05-4F89-93B2-C3FA57F3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2C44-F98C-4D6E-9561-C0C0D8C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15C83-93D4-4D87-893E-13C6562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6917D-BA59-483B-AB65-E1448A41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3185-180E-4515-A855-73E06A1F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D7E2-6C89-49EF-9322-983D62D0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2C9F-5967-4ED7-81E4-7A560379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B59F-733C-4995-9D3C-930455C5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EBF-CADA-4BAD-894F-3FE54197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CB522-C863-413B-9066-E882D6A6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E313-975C-4931-A8A6-FF4805B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E0A5-7A4C-4546-84E1-7DE1357A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AB5F5-554F-472B-BD57-697BD9FA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7518F-8B71-4F83-BC28-4E7E2911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13E6-381B-47DA-AC4F-486B0B1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047C-6F4B-4F5E-BFFC-957F848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27722-1984-4CA3-94BF-518C4C5B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D122-2157-4BD9-8B3C-4745A236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37DE3-B255-4A00-B134-A96AE77B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9C8-6EC9-465A-B1E4-AF94FF0A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26C3-637C-42C1-9A8D-A7E8C37E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176DD-EC0A-4DBA-A5F4-B8F52B22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39582-316C-49C6-A6DB-7907A791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CD95E-BACE-4FF5-8E6B-5D20B29E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4A2CD-3DA6-4E3E-8E77-87D7FE10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775A8-1382-4A4B-8917-356CDC8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05BB2-DB28-40A9-A4B9-E191CE22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E44F-B574-4DB8-9DC2-43E2870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449A-D819-4ECD-9B37-A6BD4338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3F031-DEF5-4B7C-A9F4-20E5E337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490-D2B9-4BA5-97B5-42E7113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F1F2-C1D8-48C1-96D7-35C0AD72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6228-0B08-475A-AA47-23C2D1B3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2D60-7944-45A5-BDDF-A1F5CF2B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AE1C2-4196-4533-95F7-B78D1D35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868F-448E-4900-A342-24CA706F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80FA1-9E52-4EC6-9E31-8CBB6C4D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2906D-CEDB-4693-8F42-0D155A7E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4060F-39D5-420D-91E4-B5C9B7D6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21E7-2050-46E5-AE7D-A35F7E7C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733FC-C7C5-48DF-9804-A60B7083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E84A-8DB2-49C1-8D9C-DAE033F2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59AA-746D-49E9-97A9-756C6DF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C93BE-B348-4AFB-A089-7D5CCA3F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BAFC2-2EB4-4B4A-8518-C0A6493E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9E8C3-4C89-4C92-AF80-D762AAD9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B60CB-57E3-4033-91DA-47257326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59E-2D99-48D9-8CB6-917C486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0197-E304-4DCC-88DF-A5F6458F831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D316-A8CD-4B6B-96C8-7BEBE1AE7C7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41BC-F720-49C2-9AC6-0715AD18A15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6AD-CAD4-4B0F-AC69-CBAF14A8EFD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11CC-0300-411A-9B40-1137BD9D804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84F9-5DD2-4B9F-82B1-13454A5A50E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EFA7-B93A-49A7-8BA6-0F14130A290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048200"/>
            <a:ext cx="7785360" cy="28764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IGHT STAGES OF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. CLASSIF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ies the targeted victim or victi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jewish symbol.jpg"/>
          <p:cNvPicPr/>
          <p:nvPr/>
        </p:nvPicPr>
        <p:blipFill>
          <a:blip r:embed="rId1"/>
          <a:stretch/>
        </p:blipFill>
        <p:spPr>
          <a:xfrm>
            <a:off x="3492360" y="2558880"/>
            <a:ext cx="215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2. SYMBO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stars of david.jpg"/>
          <p:cNvPicPr/>
          <p:nvPr/>
        </p:nvPicPr>
        <p:blipFill>
          <a:blip r:embed="rId1"/>
          <a:stretch/>
        </p:blipFill>
        <p:spPr>
          <a:xfrm>
            <a:off x="3987720" y="299088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3. DEHUM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Content Placeholder 3" descr="dehumanization.jpg"/>
          <p:cNvPicPr/>
          <p:nvPr/>
        </p:nvPicPr>
        <p:blipFill>
          <a:blip r:embed="rId1"/>
          <a:stretch/>
        </p:blipFill>
        <p:spPr>
          <a:xfrm>
            <a:off x="1447920" y="1600200"/>
            <a:ext cx="2438280" cy="187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Pol-jew1.jpg"/>
          <p:cNvPicPr/>
          <p:nvPr/>
        </p:nvPicPr>
        <p:blipFill>
          <a:blip r:embed="rId2"/>
          <a:stretch/>
        </p:blipFill>
        <p:spPr>
          <a:xfrm>
            <a:off x="4038480" y="2819520"/>
            <a:ext cx="4429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4. ORG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ghetto wall.gif"/>
          <p:cNvPicPr/>
          <p:nvPr/>
        </p:nvPicPr>
        <p:blipFill>
          <a:blip r:embed="rId1"/>
          <a:stretch/>
        </p:blipFill>
        <p:spPr>
          <a:xfrm>
            <a:off x="1523880" y="1676520"/>
            <a:ext cx="2457720" cy="2112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43434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uilding Ghetto Wal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5. POLAR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entrating two groups by two conflicting posi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3" descr="swastika.jpg"/>
          <p:cNvPicPr/>
          <p:nvPr/>
        </p:nvPicPr>
        <p:blipFill>
          <a:blip r:embed="rId1"/>
          <a:stretch/>
        </p:blipFill>
        <p:spPr>
          <a:xfrm>
            <a:off x="1676520" y="297180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yellowstar.jpg"/>
          <p:cNvPicPr/>
          <p:nvPr/>
        </p:nvPicPr>
        <p:blipFill>
          <a:blip r:embed="rId2"/>
          <a:stretch/>
        </p:blipFill>
        <p:spPr>
          <a:xfrm>
            <a:off x="4495680" y="3124080"/>
            <a:ext cx="1981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6. PREPAR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ing the methods, strategies, and infrastructure for Step 7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3" descr="auschwitz.jpg"/>
          <p:cNvPicPr/>
          <p:nvPr/>
        </p:nvPicPr>
        <p:blipFill>
          <a:blip r:embed="rId1"/>
          <a:stretch/>
        </p:blipFill>
        <p:spPr>
          <a:xfrm>
            <a:off x="1523880" y="312408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gate.jpg"/>
          <p:cNvPicPr/>
          <p:nvPr/>
        </p:nvPicPr>
        <p:blipFill>
          <a:blip r:embed="rId2"/>
          <a:stretch/>
        </p:blipFill>
        <p:spPr>
          <a:xfrm>
            <a:off x="4724280" y="2971800"/>
            <a:ext cx="3426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7. EXTERMIN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Content Placeholder 3" descr="ovens.jpg"/>
          <p:cNvPicPr/>
          <p:nvPr/>
        </p:nvPicPr>
        <p:blipFill>
          <a:blip r:embed="rId1"/>
          <a:stretch/>
        </p:blipFill>
        <p:spPr>
          <a:xfrm>
            <a:off x="1143000" y="1600200"/>
            <a:ext cx="3354480" cy="22096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5105520" y="2133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vens of Crematoriu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5" descr="armenian genocide.jpg"/>
          <p:cNvPicPr/>
          <p:nvPr/>
        </p:nvPicPr>
        <p:blipFill>
          <a:blip r:embed="rId2"/>
          <a:stretch/>
        </p:blipFill>
        <p:spPr>
          <a:xfrm>
            <a:off x="2743200" y="4114800"/>
            <a:ext cx="2870280" cy="19810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791320" y="449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rmenian victim of death mar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8. DENI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Content Placeholder 3" descr="trials.jpg"/>
          <p:cNvPicPr/>
          <p:nvPr/>
        </p:nvPicPr>
        <p:blipFill>
          <a:blip r:embed="rId1"/>
          <a:stretch/>
        </p:blipFill>
        <p:spPr>
          <a:xfrm>
            <a:off x="1295280" y="1905120"/>
            <a:ext cx="2362320" cy="2997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3886200" y="2971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st perpetrators put on trial after the Holocaust ended  entered a “not guilty” plea.  Most perpetrators of genocide are never punished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48:36Z</dcterms:created>
  <dc:creator> </dc:creator>
  <dc:description/>
  <dc:language>en-US</dc:language>
  <cp:lastModifiedBy> </cp:lastModifiedBy>
  <dcterms:modified xsi:type="dcterms:W3CDTF">2010-02-09T17:24:46Z</dcterms:modified>
  <cp:revision>3</cp:revision>
  <dc:subject/>
  <dc:title>GENOCIDE</dc:title>
</cp:coreProperties>
</file>