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4FC-6638-4652-ADC0-54685BB9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B1D-9360-42F8-902F-1D8FAB61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E0A-F177-4AD2-B2FE-E55A2096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C77-782A-4D02-99BE-660435C0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0749-48D5-499E-B3BA-9FDE2392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DBBE-3AE2-4023-A5F1-6E16B78C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ECE0-FEA0-45D1-A92D-11C86BD6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9421-B32D-4B03-A5A1-96FC5BF3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6D2C-E013-46F1-B17E-8EAE0050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A90D-E4D9-4AA3-BC81-C029C19C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3366-369C-4FC8-9773-B8E274C5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8D6-31C4-441A-8176-2037E71A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92A9-FF6A-4B88-B4C6-2FA867F1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02E4-3C82-433E-B487-10A58596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3AB3-DDD1-4ECB-B1CE-EB677324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346E-2CC5-4697-B459-0C72EA5C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0C62-F363-45FC-895D-A6EC7341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92CA-7627-49EA-ABE6-1EE67B4E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585C-4692-4EBB-BC9B-4F2ED8D6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1B1C-A1E3-4301-8258-8B637C15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95E7F-ABDD-4BED-8F0D-D1C8E661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3D235-9539-489C-B9A0-DD292E82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828-DFC5-42F8-B189-6B9B1564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1C0B4-891E-4E32-ADE4-47B3C5AB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FBF4-FD7F-40D9-8765-2A8FB342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38D7-2636-496C-B0F4-58381E50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4943-C539-4000-A482-2956CFBE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C20E-E0D5-4785-9A52-99DC7D35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8138-4623-4C5A-8725-64E0A938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DF40-7A00-458F-AD8D-735CAA3F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097F3-457B-4FA1-86FE-24A12237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EE4F-C643-4109-AB44-D4524648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95CE2-1857-4C14-911D-5120CFE4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2B1-231C-4D97-847D-F732E2E2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B9432-0D72-407B-A41D-39704EB0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0C659-9FF2-49D4-94D2-9DADEC40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ABF5D-4CEF-4E50-AE40-7A672DA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639BE-85DE-4EFF-8631-63D5A02F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151B3-5438-4EF1-AE13-D809C1DD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54A4-B057-4742-95AC-0B74D262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16CB-6F0B-4B57-BBF0-B7A59C4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8654E-B5CE-4A7B-A526-757D763F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E8253-46B4-4F7F-B8C7-8E491DF8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FCA0-3978-496A-9F45-55C58320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387-0C5F-4DCC-BF10-D9C89302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C68C8-CE6E-4D75-B973-F19EFB22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5C9D1-EE4C-4686-B503-4EF0A482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284C4-AC58-40D6-8EBF-845D20DF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40F4C-E2E6-432B-A845-9EC00AE0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3C067-3094-4E3F-9A49-B4076D3F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A2FF5-A5D8-445D-8BE9-14BB52A3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284F4-F196-4804-865D-CBE6B5F7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56580-8132-4921-9D01-8CCE6EB1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4B8A0-D7A5-4ADD-86ED-E1975ECC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A5DA1-79A0-4D29-B528-34D04C14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BD1-0460-4CCE-B725-3298FDE5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19CE4-7696-403C-B07D-0DF62A33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5193F-BD66-4959-8A5F-42FA0BF8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BF15C-FCDB-4C93-AEB5-F3E39A12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03C60-C8CB-43A2-A5C7-AFD898E1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DE5BA-5372-4B25-8252-9038F25A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4EE3B-0714-4D14-B6A3-00FD1B9E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783D4-E19E-4104-9B75-93A641D3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42707-5802-4839-8872-84CF1CB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2A76-FF4E-4F95-B9C9-36DE65D8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9235-94C9-4DED-B2A0-7F66D47A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DE0-06A6-4E9F-89DC-EA8E68E5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F1B03-2E6C-408F-847E-F8BF37AF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AA8D7-5F4F-4D96-9454-2A81A12D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215C3-9A32-49C0-A53C-9EE3E1E3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312E5-5D91-49F8-BAA4-02C990FB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5965E-A714-4E38-8F3E-947A1572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8143B-AD1F-4A2C-B35E-6193774B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B972B-35FE-45F4-8935-A1F20DC8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EDC2D-9673-4496-854E-9277B6BF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FFE85-F8E8-417A-BD67-1C19397B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FA34C-6F02-4D06-934A-F200FACB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CF0-3DA1-4E6C-9286-68BD8B41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E556C-2833-49E3-B433-901AFC49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045D0-D652-42B8-A693-0BC9514B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44499-E73D-43FC-AEA6-32DFB5D0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1BBC4-877A-4867-8B1C-9F140CDF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91A53-4057-4AC0-8253-721EF668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B28-64D5-4EB3-B13F-60E240EC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C7C4-FA86-421B-9CB2-CE6E4CD2F52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78FA-9698-47F6-B61E-4250080778F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4924-1903-4C10-912A-6A3A15021D6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6DDB-683D-40EA-B14E-C82F6075838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DC5C-2EA0-45DA-A577-AC348E6D0EB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314C-0532-4355-8E8A-1D8088C397C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B41B-5579-47D6-9148-8B3BD01F3D9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048200"/>
            <a:ext cx="7785360" cy="28764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IGHT STAGES OF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. CLASSIFI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dentifies the targeted victim or victi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3" descr="jewish symbol.jpg"/>
          <p:cNvPicPr/>
          <p:nvPr/>
        </p:nvPicPr>
        <p:blipFill>
          <a:blip r:embed="rId1"/>
          <a:stretch/>
        </p:blipFill>
        <p:spPr>
          <a:xfrm>
            <a:off x="3492360" y="2558880"/>
            <a:ext cx="215928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2. SYMBOL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Content Placeholder 3" descr="stars of david.jpg"/>
          <p:cNvPicPr/>
          <p:nvPr/>
        </p:nvPicPr>
        <p:blipFill>
          <a:blip r:embed="rId1"/>
          <a:stretch/>
        </p:blipFill>
        <p:spPr>
          <a:xfrm>
            <a:off x="3987720" y="2990880"/>
            <a:ext cx="16257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3. DEHUMAN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Content Placeholder 3" descr="dehumanization.jpg"/>
          <p:cNvPicPr/>
          <p:nvPr/>
        </p:nvPicPr>
        <p:blipFill>
          <a:blip r:embed="rId1"/>
          <a:stretch/>
        </p:blipFill>
        <p:spPr>
          <a:xfrm>
            <a:off x="1447920" y="1600200"/>
            <a:ext cx="2438280" cy="187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Pol-jew1.jpg"/>
          <p:cNvPicPr/>
          <p:nvPr/>
        </p:nvPicPr>
        <p:blipFill>
          <a:blip r:embed="rId2"/>
          <a:stretch/>
        </p:blipFill>
        <p:spPr>
          <a:xfrm>
            <a:off x="4038480" y="2819520"/>
            <a:ext cx="44290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4. ORGAN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ghetto wall.gif"/>
          <p:cNvPicPr/>
          <p:nvPr/>
        </p:nvPicPr>
        <p:blipFill>
          <a:blip r:embed="rId1"/>
          <a:stretch/>
        </p:blipFill>
        <p:spPr>
          <a:xfrm>
            <a:off x="1523880" y="1676520"/>
            <a:ext cx="2457720" cy="21128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43434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uilding Ghetto Wal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5. POLAR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centrating two groups by two conflicting posi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3" descr="swastika.jpg"/>
          <p:cNvPicPr/>
          <p:nvPr/>
        </p:nvPicPr>
        <p:blipFill>
          <a:blip r:embed="rId1"/>
          <a:stretch/>
        </p:blipFill>
        <p:spPr>
          <a:xfrm>
            <a:off x="1676520" y="2971800"/>
            <a:ext cx="1434960" cy="2158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yellowstar.jpg"/>
          <p:cNvPicPr/>
          <p:nvPr/>
        </p:nvPicPr>
        <p:blipFill>
          <a:blip r:embed="rId2"/>
          <a:stretch/>
        </p:blipFill>
        <p:spPr>
          <a:xfrm>
            <a:off x="4495680" y="3124080"/>
            <a:ext cx="19814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6. PREPAR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ing the methods, strategies, and infrastructure for Step 7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3" descr="auschwitz.jpg"/>
          <p:cNvPicPr/>
          <p:nvPr/>
        </p:nvPicPr>
        <p:blipFill>
          <a:blip r:embed="rId1"/>
          <a:stretch/>
        </p:blipFill>
        <p:spPr>
          <a:xfrm>
            <a:off x="1523880" y="312408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gate.jpg"/>
          <p:cNvPicPr/>
          <p:nvPr/>
        </p:nvPicPr>
        <p:blipFill>
          <a:blip r:embed="rId2"/>
          <a:stretch/>
        </p:blipFill>
        <p:spPr>
          <a:xfrm>
            <a:off x="4724280" y="2971800"/>
            <a:ext cx="3426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7. EXTERMIN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0" name="Content Placeholder 3" descr="ovens.jpg"/>
          <p:cNvPicPr/>
          <p:nvPr/>
        </p:nvPicPr>
        <p:blipFill>
          <a:blip r:embed="rId1"/>
          <a:stretch/>
        </p:blipFill>
        <p:spPr>
          <a:xfrm>
            <a:off x="1143000" y="1600200"/>
            <a:ext cx="3354480" cy="22096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5105520" y="21337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vens of Crematoriu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5" descr="armenian genocide.jpg"/>
          <p:cNvPicPr/>
          <p:nvPr/>
        </p:nvPicPr>
        <p:blipFill>
          <a:blip r:embed="rId2"/>
          <a:stretch/>
        </p:blipFill>
        <p:spPr>
          <a:xfrm>
            <a:off x="2743200" y="4114800"/>
            <a:ext cx="2870280" cy="19810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791320" y="4495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rmenian victim of death march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8. DENI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Content Placeholder 3" descr="trials.jpg"/>
          <p:cNvPicPr/>
          <p:nvPr/>
        </p:nvPicPr>
        <p:blipFill>
          <a:blip r:embed="rId1"/>
          <a:stretch/>
        </p:blipFill>
        <p:spPr>
          <a:xfrm>
            <a:off x="1295280" y="1905120"/>
            <a:ext cx="2362320" cy="2997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3886200" y="2971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ost perpetrators put on trial after the Holocaust ended  entered a “not guilty” plea.  Most perpetrators of genocide are never punished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48:36Z</dcterms:created>
  <dc:creator> </dc:creator>
  <dc:description/>
  <dc:language>en-US</dc:language>
  <cp:lastModifiedBy> </cp:lastModifiedBy>
  <dcterms:modified xsi:type="dcterms:W3CDTF">2010-02-09T17:24:46Z</dcterms:modified>
  <cp:revision>3</cp:revision>
  <dc:subject/>
  <dc:title>GENOCIDE</dc:title>
</cp:coreProperties>
</file>