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1A1-3002-4628-87D3-019486CE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DCF-A479-4C59-88D7-C970332D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F5B-EB62-4B16-B882-6510B977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757-88F3-4B10-B400-9D635EF8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50D-ED85-484A-9391-FFDFCD43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087E-BB43-4E57-BB2C-A66BAA91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B440-AF1D-4B4D-A80C-B2AF3E49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F005-66AF-41DA-9929-70E5122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F2C1-FAF5-4CB0-BAB5-15B4093A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029F-D4E2-4622-830F-3DD25A32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297B-6074-41AE-80AC-B588EDDE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886-DB63-4BAE-AB38-C702D1C6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4DAD-8D2A-47BC-B1A2-12C54D7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E38E-BF19-4DC9-A921-A1B5165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503C-62E5-4F4B-A948-FA495E5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BF85-13DC-4EF4-899B-4D66F8A0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A0EE-FBED-4750-87BB-04685D12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B10EF-C105-4FF6-855F-46771BF2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85EF-99D9-4A8B-8B8F-DA71424B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0B0A-1B58-44C3-A365-900563E1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BFC42-EA0B-4820-AD34-94ABD20A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5206-3DC5-47B2-A17B-FB16577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69E-24A3-41D0-AA40-2F9ACF0D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C83D-AE79-45F3-85FA-F9A56136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5EA68-877B-46B0-981F-B1AA08A6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6FC3-EA3F-42CB-AA5C-24A2A18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5FE0-EB70-45F1-A6DA-722D742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B024-21D9-4DCF-AE57-DC7C0C4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4C02-7FB2-4D5B-B9D8-274F132D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D8DF-E8F2-4E3F-8F88-5A46B8EF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F746-F75B-4D1F-B182-204913D0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ED38-191E-4474-A303-F3A7A496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81F6-815A-4BC0-A592-12DD238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BDB-1FD1-4962-961D-032B0EB3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F7CA0-9E8A-4E66-B1D2-ECDF2968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A9FD-C791-42CE-A9C0-FC6B7027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C2E3-760C-43E6-B4BB-3F40FDB1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5799-9BF8-4B25-95C3-9B47CEA0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38CA-751C-4E4D-B89D-CCD254C3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BBA5-A43D-4847-9C69-2728AAE9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80B6-B145-48FD-8219-A51C7EF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B7BD-1AB1-46FA-8C64-32ACDC5F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4EBE7-48F6-42DE-BEA7-4356F751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B1887-29CC-42FF-9028-33EB17CB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4A7-6BB6-423E-AF22-48536B1E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7671C-FB14-4C2F-902E-D89F6A2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B8DD-4A69-4E55-A63B-A4D93217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12283-4B5E-4992-8CB4-5D435ACC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0DB3B-10F4-41B0-9F55-48271563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D7018-B7C8-48BF-92E4-7A4F409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A4B5-71EB-417C-AA0B-8EF9FD9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15E79-0E6B-437D-BB10-B5C3F9B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38BAE-5926-4145-93CA-9D181BDA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97013-9ABB-4372-BBDB-C4158572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D8EF-2979-417B-9ECA-A472DDA7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61A-E3C4-4D0C-8EDD-56855545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9C39-5934-4EFC-B143-DC1DE356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25B6-4522-41E4-BBD7-DABBC60F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A35D-F87A-4E72-8697-F951C19C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D33AE-88EB-4ECD-9CB0-29E1C08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CD6F0-C542-4F18-BB9D-A742C03C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1706-688B-4494-A106-76BFE2C7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73A4-BE15-4241-A93E-682052BE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FFA7-97CA-46F7-BEDD-66FEF99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14BB9-8C78-43BE-8F99-74584B8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2C171-83AF-4766-8244-55725620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4CE-897A-4B04-80A9-326AC51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7D31-3559-4F48-8EF5-A6901D6C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9F26-1FE1-4621-886D-78CEA8F3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E9CB6-098C-42C4-93E3-9623AC22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F8C79-CEB4-4EEB-82D0-65B477FC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03760-B379-4329-A6A6-4F1B2B26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BD2AE-AC8A-43D3-BCFD-02F0BF48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C4F7-08D0-40A6-9A5A-35B75273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741B7-18A8-445D-8726-30C6254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B5799-AC5B-474F-8917-E3824CF6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8D20E-DE54-453E-A8EF-EED96CA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C9F-0CE2-4074-B1D6-97D182C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B77C0-9566-43E8-A463-9A80CD7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7024-F2F7-42C5-B49C-3B61F23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1DB9-34DA-4E76-B5C3-2ED7A12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37AA5-F43E-4957-ADAE-4283ED2D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5E39-776D-42B2-929A-C2A87ED4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F0F-4486-4B23-83B7-A5E6DE2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125D-54EC-431C-87FF-564207AEB36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629-D6EC-4EA3-9839-5204F8CAF80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D19F-14F6-44FD-8C5C-25E13D1E984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18CE-AC1C-4D3A-B104-853B52A4B8B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3E88-9071-4773-B59D-2495B13D1A6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CC4C-CE32-4B5E-949D-6C40FB138E8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ECBB-B5EA-47E5-A0E6-B57C98F767A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048200"/>
            <a:ext cx="778536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IGHT STAGES OF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1. CLASSIF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ntifies the targeted victim or victi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3" descr="jewish symbol.jpg"/>
          <p:cNvPicPr/>
          <p:nvPr/>
        </p:nvPicPr>
        <p:blipFill>
          <a:blip r:embed="rId1"/>
          <a:stretch/>
        </p:blipFill>
        <p:spPr>
          <a:xfrm>
            <a:off x="3492360" y="2558880"/>
            <a:ext cx="215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2. SYMBOL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Content Placeholder 3" descr="stars of david.jpg"/>
          <p:cNvPicPr/>
          <p:nvPr/>
        </p:nvPicPr>
        <p:blipFill>
          <a:blip r:embed="rId1"/>
          <a:stretch/>
        </p:blipFill>
        <p:spPr>
          <a:xfrm>
            <a:off x="3987720" y="2990880"/>
            <a:ext cx="16257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3. DEHUM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Content Placeholder 3" descr="dehumanization.jpg"/>
          <p:cNvPicPr/>
          <p:nvPr/>
        </p:nvPicPr>
        <p:blipFill>
          <a:blip r:embed="rId1"/>
          <a:stretch/>
        </p:blipFill>
        <p:spPr>
          <a:xfrm>
            <a:off x="1447920" y="1600200"/>
            <a:ext cx="2438280" cy="187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Pol-jew1.jpg"/>
          <p:cNvPicPr/>
          <p:nvPr/>
        </p:nvPicPr>
        <p:blipFill>
          <a:blip r:embed="rId2"/>
          <a:stretch/>
        </p:blipFill>
        <p:spPr>
          <a:xfrm>
            <a:off x="4038480" y="2819520"/>
            <a:ext cx="4429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4. ORGAN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ghetto wall.gif"/>
          <p:cNvPicPr/>
          <p:nvPr/>
        </p:nvPicPr>
        <p:blipFill>
          <a:blip r:embed="rId1"/>
          <a:stretch/>
        </p:blipFill>
        <p:spPr>
          <a:xfrm>
            <a:off x="1523880" y="1676520"/>
            <a:ext cx="2457720" cy="2112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3434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ilding Ghetto Wal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5. POLARIZ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ncentrating two groups by two conflicting posi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3" descr="swastika.jpg"/>
          <p:cNvPicPr/>
          <p:nvPr/>
        </p:nvPicPr>
        <p:blipFill>
          <a:blip r:embed="rId1"/>
          <a:stretch/>
        </p:blipFill>
        <p:spPr>
          <a:xfrm>
            <a:off x="1676520" y="297180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yellowstar.jpg"/>
          <p:cNvPicPr/>
          <p:nvPr/>
        </p:nvPicPr>
        <p:blipFill>
          <a:blip r:embed="rId2"/>
          <a:stretch/>
        </p:blipFill>
        <p:spPr>
          <a:xfrm>
            <a:off x="4495680" y="3124080"/>
            <a:ext cx="19814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6. PREPAR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ing the methods, strategies, and infrastructure for Step 7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3" descr="auschwitz.jpg"/>
          <p:cNvPicPr/>
          <p:nvPr/>
        </p:nvPicPr>
        <p:blipFill>
          <a:blip r:embed="rId1"/>
          <a:stretch/>
        </p:blipFill>
        <p:spPr>
          <a:xfrm>
            <a:off x="1523880" y="3124080"/>
            <a:ext cx="2286000" cy="3532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gate.jpg"/>
          <p:cNvPicPr/>
          <p:nvPr/>
        </p:nvPicPr>
        <p:blipFill>
          <a:blip r:embed="rId2"/>
          <a:stretch/>
        </p:blipFill>
        <p:spPr>
          <a:xfrm>
            <a:off x="4724280" y="2971800"/>
            <a:ext cx="3426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7. EXTERMIN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Content Placeholder 3" descr="ovens.jpg"/>
          <p:cNvPicPr/>
          <p:nvPr/>
        </p:nvPicPr>
        <p:blipFill>
          <a:blip r:embed="rId1"/>
          <a:stretch/>
        </p:blipFill>
        <p:spPr>
          <a:xfrm>
            <a:off x="1143000" y="1600200"/>
            <a:ext cx="3354480" cy="22096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5105520" y="21337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vens of Crematoriu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5" descr="armenian genocide.jpg"/>
          <p:cNvPicPr/>
          <p:nvPr/>
        </p:nvPicPr>
        <p:blipFill>
          <a:blip r:embed="rId2"/>
          <a:stretch/>
        </p:blipFill>
        <p:spPr>
          <a:xfrm>
            <a:off x="2743200" y="4114800"/>
            <a:ext cx="2870280" cy="19810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791320" y="4495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rmenian victim of death march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8. DENI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Content Placeholder 3" descr="trials.jpg"/>
          <p:cNvPicPr/>
          <p:nvPr/>
        </p:nvPicPr>
        <p:blipFill>
          <a:blip r:embed="rId1"/>
          <a:stretch/>
        </p:blipFill>
        <p:spPr>
          <a:xfrm>
            <a:off x="1295280" y="1905120"/>
            <a:ext cx="2362320" cy="2997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3886200" y="29718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st perpetrators put on trial after the Holocaust ended  entered a “not guilty” plea.  Most perpetrators of genocide are never punished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6:48:36Z</dcterms:created>
  <dc:creator> </dc:creator>
  <dc:description/>
  <dc:language>en-US</dc:language>
  <cp:lastModifiedBy> </cp:lastModifiedBy>
  <dcterms:modified xsi:type="dcterms:W3CDTF">2010-02-09T17:24:46Z</dcterms:modified>
  <cp:revision>3</cp:revision>
  <dc:subject/>
  <dc:title>GENOCIDE</dc:title>
</cp:coreProperties>
</file>